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3B6-95B4-4540-B869-D5C9BAE8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A87-F9B5-4919-89CD-F439583D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433-45E9-4904-B6D7-D9CFDC9B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778-FE42-459D-AAEE-EC4D34F6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92D-918A-4FAE-8194-C01F2FCD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5B3-05FF-4B42-AB5D-441B327E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970-559E-4D42-87FB-ED597881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48C-CABD-418B-8EEF-8E1954B5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0DF-341B-47AD-9980-7E645AE0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04B-0221-4BFF-9DD0-8C669253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C0D-B3D3-45BA-B1FF-F66C2F37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D63-4A47-4878-938F-1361795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4C8D-6A53-4C24-8F04-A318F358F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أمر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بالمعروف والنهي عن المنكر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من من عذاب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13800" cy="56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211640" cy="90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428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95280" y="957240"/>
            <a:ext cx="853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8642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79280" y="1438200"/>
            <a:ext cx="8713800" cy="523080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23920" y="589284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طاعة الله والرسول في كل أمر والبعد عن كل ما نهى ع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503280" y="1125360"/>
            <a:ext cx="8202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679840" y="3213000"/>
            <a:ext cx="6222960" cy="13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3378240" y="5365800"/>
            <a:ext cx="553716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179280" y="249228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وف من الله تعالى والدعاء بأن يثبت الله قلبه على الإيم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452592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سماع تفه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6281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34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73280"/>
            <a:ext cx="8542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69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770724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7667640" y="3429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250920" y="389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ا تعرضو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581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يو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229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كلام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8723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جيبوا الله والرس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سماع الذي نفاه الله عن المشركين في قوله تعالى :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هو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ماع تدبر وعظ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49228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ما سماع التبليغ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قامت الحجة عليهم به بما سمعوه من آي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213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أن من  الناس من هو شر من الدواب وأحط منزل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الله تعالى وهبهم أسماعاً وأبصاراً وأفئدة فاستعملوها في معصيته وتركوا طاعته وأم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منع الإيمان والخير إلا ع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خير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730520" y="1484280"/>
            <a:ext cx="2481120" cy="4842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179280" y="4797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ان عدم هداية الله ل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أنفسهم لا تقبل الخير ولا تميل إلى الهدى إذ عرف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44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استجابة لله ولرسوله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اة المسلمين الحقيقية وقوتهم وعز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609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طريق سعادة المرء في الدنيا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تقوى الله وطاعة رس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طريق سعادة المرء في الدنيا يكون بتقوى الله وطاعة رسوله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85264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قلوب بيد الله تعالى يصرفها كيف يش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عائ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يا مقلب القلوب ثبت قلبي على دينك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86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ذر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450864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ضررها لا يقتصر على الفاعل فحسب بل يتضرر بذلك المجتمع بأس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5445000"/>
            <a:ext cx="86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ضرر الفسوق والمعاصي والمنكرات لا يقتصر على الفاعل فحسب بل يتضرر بذلك المجتمع بأس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ذا ظهرت المعاصي في أمتي عمهم الله بعذاب من عنده ...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27040" y="1989000"/>
            <a:ext cx="83311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